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4BBF5-1909-4355-880E-6F4C4B7A87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1143000" y="685800"/>
            <a:ext cx="4572000" cy="3429000"/>
          </a:xfrm>
          <a:prstGeom prst="rect">
            <a:avLst/>
          </a:prstGeom>
          <a:ln w="0">
            <a:noFill/>
          </a:ln>
        </p:spPr>
      </p:sp>
      <p:sp>
        <p:nvSpPr>
          <p:cNvPr id="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zlie</a:t>
            </a:r>
            <a:endParaRPr b="0" lang="en-US" sz="1200" spc="-1" strike="noStrike">
              <a:solidFill>
                <a:srgbClr val="000000"/>
              </a:solidFill>
              <a:latin typeface="Calibri"/>
            </a:endParaRPr>
          </a:p>
        </p:txBody>
      </p:sp>
      <p:sp>
        <p:nvSpPr>
          <p:cNvPr id="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86CD-8559-4220-A862-F9170FF5E8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130CF-28F3-4F5B-B7B1-08B13DD30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75920-B118-4E1E-9A3C-D6876D422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E5183-A30A-40A6-A975-BA14CE51C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69936-7EA1-435B-9511-FAFFB6CF2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213D5-AB59-4725-89CF-3BED95ECF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3FF00-40B7-465D-A612-3EEA3B5A3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D885E-97F5-45E7-AD4C-12BFC79A6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5F912-08DD-4920-B5B0-2AAE23226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1E0C3-1313-4F5E-8730-D3B4CACD4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25880-7575-452E-B81F-F5B168C83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1A7C0-EAB6-4ECD-BE7A-378BE30B1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0843B-E63A-4950-B776-A85E2EBCCA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426E-2757-4400-829D-E300D0D4A1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2286000" y="152280"/>
            <a:ext cx="472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hoice Board </a:t>
            </a:r>
            <a:endParaRPr b="0" lang="en-US" sz="1600" spc="-1" strike="noStrike">
              <a:solidFill>
                <a:srgbClr val="000000"/>
              </a:solidFill>
              <a:latin typeface="Calibri"/>
            </a:endParaRPr>
          </a:p>
        </p:txBody>
      </p:sp>
      <p:graphicFrame>
        <p:nvGraphicFramePr>
          <p:cNvPr id="49" name=""/>
          <p:cNvGraphicFramePr/>
          <p:nvPr/>
        </p:nvGraphicFramePr>
        <p:xfrm>
          <a:off x="152280" y="1600200"/>
          <a:ext cx="8763120" cy="5045040"/>
        </p:xfrm>
        <a:graphic>
          <a:graphicData uri="http://schemas.openxmlformats.org/drawingml/2006/table">
            <a:tbl>
              <a:tblPr/>
              <a:tblGrid>
                <a:gridCol w="2038320"/>
                <a:gridCol w="6724800"/>
              </a:tblGrid>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1 – Test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th/Logica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a test that covers ______ (insert topics from above).  Be sure to include an answer key with a designation for the number of points for each portion of a problem.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2 – Song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usical/Rhythmi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ose a song that explains ______ (insert topics from above).   Upon completion of the project, you must turn in a written copy and perform or play a recording of the song for the class.   You must record the song yourself.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3 – Comic Strip</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isual/Spatial)</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e a comic strip.  Make sure to create at least one main character, a setting, and a plot for the comic strip.  Inside of the comic strip, show ______ (insert topics from above).   The topics may be shown analytically (steps for solving  or definition for the math topic are shown), practically (math is used in a real life setting), or creatively (you choose how to show the math topic).   Make sure to fully cover the topics above inside of the comic strip.</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4 – Magazine </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bal/Linguistic)</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sign a magazine that contains articles on ______ (insert topics from above).   Remember that articles should have titles, paragraphs, and images with captions.  Make sure to have at least a one page magazine with two different articles.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5 – Pantomime or Dance (Bodily/Kinesthetic)</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eate a pantomime or dance that will depict  ______ (insert topics from above).  Remember that facial expressions and body language are important.  Write down the basic moves that you are making and be prepared to perform or to play a recording  of the pantomime/dance.  You must record the pantomime/dance yourself.</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9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hoice #6 – E-trip</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uralist/Existentialist)</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 an online field trip that takes you to different websites that will explain  ______ (insert topics from above).  Make sure to include a lesson guide for students to follow and a handout to be completed by a student to prove that they have learned the material.  Include an answer key for your handout.  Be prepared to present your field trip.</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 name="TextBox 4"/>
          <p:cNvSpPr/>
          <p:nvPr/>
        </p:nvSpPr>
        <p:spPr>
          <a:xfrm>
            <a:off x="990720" y="457200"/>
            <a:ext cx="77724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All formats must include:  __________________________________________________</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 </a:t>
            </a:r>
            <a:r>
              <a:rPr b="0" lang="en-US" sz="1400" spc="-1" strike="noStrike">
                <a:solidFill>
                  <a:srgbClr val="000000"/>
                </a:solidFill>
                <a:latin typeface="Lucida Sans Unicode"/>
              </a:rPr>
              <a:t>_______________________________________________________________________</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terpersonal – assign group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Sans Unicode"/>
              </a:rPr>
              <a:t>Intrapersonal – require reflection logs throughout the projec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00:53:26Z</dcterms:created>
  <dc:creator>CCS</dc:creator>
  <dc:description/>
  <dc:language>en-US</dc:language>
  <cp:lastModifiedBy>CCS</cp:lastModifiedBy>
  <dcterms:modified xsi:type="dcterms:W3CDTF">2009-07-22T00:54:56Z</dcterms:modified>
  <cp:revision>2</cp:revision>
  <dc:subject/>
  <dc:title>Slide 1</dc:title>
</cp:coreProperties>
</file>